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709-0C0D-4BC8-840A-011DCCF9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702-D609-4996-A031-23DE885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B74-C412-485F-B600-103CF823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A03-BEAA-42BB-AE34-EC4CF999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677-4F65-458C-A48C-EA2A7BDF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F99-3272-4E38-848A-3E2DBCE4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668-26E5-407F-9529-D06BEB8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D67-218F-447B-883A-2B976A1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E9A-DF07-4741-AD18-BF85F8E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AA6-00E8-4BD2-ADF4-48D254F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459-AE64-46C0-B5F5-DD99DBA8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03A-1F16-4E80-A0E2-001127C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4A0E-08A1-4C7F-88B7-78E54378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res emplois du conditi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assé/antéri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eut s’employer pour rapporter des faits dans le passé dont on n’est pas sû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. Un des fils du colonel Kadhafi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urait été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ué par une frappe aérienne, mais ‘les preuves ne sont pas suffisantes’, a-t-elle ajou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m’a dit qu’il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arriverai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croyais qu’il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mprendrai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elon les journalistes, les rebelles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serai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Tripoli mainte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voudrai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vous présenter mes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Pourriez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-vous m’ai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retiendrai une autre plac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au cas où vous décideriez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v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j’étais à votre place, j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n’irais 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utilise pour exprimer une action future dans le pass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.  Il a dit qu’il viendrait dem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savais que tu le fer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es parents pensaient qu’il serait avoc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 professeur nous a averti que l’examen serait diffic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eut être une forme de polites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voudrais vous pa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riez-vous m’a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’aimerais aller au théâtre ce 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auriez-vous l’heure, s’il vous plaî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emploie avec: ‘au cas où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lle nous donnera son adresse au cas où nous irions à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us prendrons le car au cas où il y aurait une grève de la SNC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utilise dans les phrases SIC, CSI (si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conditionnel) (conditionnel, si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’utilise pour rapporter un fait dont on n’est pas sûr, surtout dans les nouv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u présent, on utilise le conditionnel présent, au passé, on utilise le conditionnel antérie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.  Il y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urait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eaucoup plus de radioactivité que ce que les autorités japonaises nous ont révél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Le conditionnel passé ou antéri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Modè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erait-il déjà par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’aurais voulu vous présenter mes parents, mais vous n’étiez pas l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i j’avais été à votre place, je ne serais pas allé à la fê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 fils de Gadhafi aurait été tué, selon une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 conditionnel 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 une forme de politesse au passé et peut souvent exprimer le regret d’un désir manq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’aurais voulu vous présenter mes parents, mais vous n’étiez pas l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ne m’as-tu pas téléphoné?  J’aurais pu t’a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s aurions aimé le voir avant son dé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riez-vous su le faire mieux que l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2:06:39Z</dcterms:created>
  <dc:creator>hynschts</dc:creator>
  <dc:description/>
  <dc:language>en-US</dc:language>
  <cp:lastModifiedBy>Christopher Levy</cp:lastModifiedBy>
  <dcterms:modified xsi:type="dcterms:W3CDTF">2016-05-26T03:01:55Z</dcterms:modified>
  <cp:revision>6</cp:revision>
  <dc:subject/>
  <dc:title>Les autres emplois du conditionnel</dc:title>
</cp:coreProperties>
</file>